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jpeg" ContentType="image/jpe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1F82C19-4F0C-4D71-B9DF-510B7E73D2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639C717-5ABA-4129-BE97-805AF9041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4C7920B-74FC-4279-B531-A168F7AF212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D4BBB60-D078-4C40-8C18-3639CEAC29F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0F1C4-25E5-462D-B8A4-75EA5F90C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109E7-CF15-4C17-943C-F0D7713EB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F1DA5-E6ED-4682-BCF7-2E0447776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6ACD4-5A1C-44AC-B7BD-E6FF823F3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CE7E7-302D-486D-ABF5-91F0879ED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5E89F-B0C9-44A9-B088-CABF6FACF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400B4-4ACF-4BE4-AE0B-F57BEC87E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C57FB86-5C24-4839-942B-B2F819337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7D04D-62EF-4833-B7F1-CFBD275FC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97BB6-6E2D-440C-8146-B8B3CD99E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1757A-331E-4CBC-89BB-F3BAC5B88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EE432-6DA9-4E35-8A7B-1FFCA7CB8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09342-0659-46A4-BEB2-B2DDEA16B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0C181AD-521F-4916-8772-A26FDFF43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489D675-1591-4AFF-9AE0-2E6D5FB79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F8CDF71-4374-4671-BEB1-D2BAD931E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E9B6CAF-AA99-4945-8ADD-85174650A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554A48D-64F0-4476-8481-2195E5B4A4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A200919-D4C5-4492-86FB-30B14B8562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E6B3B35-0151-4411-BADA-FEFB30B9E9B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72FE-6F9D-496B-85F8-C5AE87EA141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B8AA-C0FF-41AF-9792-F5C340B4400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nvironment.nsw.gov.au/education/" TargetMode="External"/><Relationship Id="rId2" Type="http://schemas.openxmlformats.org/officeDocument/2006/relationships/hyperlink" Target="http://www.environment.nsw.gov.au/sustainbus/index.htm" TargetMode="External"/><Relationship Id="rId3" Type="http://schemas.openxmlformats.org/officeDocument/2006/relationships/hyperlink" Target="http://www.powerhousemuseaum.com/ecotude/" TargetMode="External"/><Relationship Id="rId4" Type="http://schemas.openxmlformats.org/officeDocument/2006/relationships/hyperlink" Target="http://www.powerhousemuseum.com/innovativegame/"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vironmental Sustainability</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533" name=""/>
          <p:cNvGraphicFramePr/>
          <p:nvPr/>
        </p:nvGraphicFramePr>
        <p:xfrm>
          <a:off x="324000" y="549360"/>
          <a:ext cx="8496000" cy="5441400"/>
        </p:xfrm>
        <a:graphic>
          <a:graphicData uri="http://schemas.openxmlformats.org/drawingml/2006/table">
            <a:tbl>
              <a:tblPr/>
              <a:tblGrid>
                <a:gridCol w="4248000"/>
                <a:gridCol w="4248000"/>
              </a:tblGrid>
              <a:tr h="1191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Eco Systems</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Your Neighborhood</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Coral Reef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cological Indicator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Forest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Habitat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tershed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etland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Local data</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Map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Community issu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Health and Safety</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Asthma</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Lead</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Mercury</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Pesticide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Rad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Sun Protec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
          <p:cNvSpPr/>
          <p:nvPr/>
        </p:nvSpPr>
        <p:spPr>
          <a:xfrm>
            <a:off x="468360" y="694440"/>
            <a:ext cx="8136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Sustainability</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tainability means meeting the needs of the present without making it       difficult for future generations to meet their need, ensuring that the resources we use can be replenished</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tainability is an important concept for technological development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must use resources in a way that does not deplete them too quickl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y technological development must consider the total quality of life, both immediately and in the futur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large part of designing sustainable products relates to conserving energy and making sure that the long-term consequences of any actions are considered</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ing sustainable is also about creating products that are safe, cost effective and sensitive to the needs of the us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
          <p:cNvSpPr/>
          <p:nvPr/>
        </p:nvSpPr>
        <p:spPr>
          <a:xfrm>
            <a:off x="611280" y="1198440"/>
            <a:ext cx="7848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Ecological Footprint</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logical Footprint is a resource management tool that measures how much land and water area a human population requires to produce the resources it consumes and to absorb its wastes under prevailing technolog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order to live, we consume what nature offers. Every action impacts the planet’s ecosystems. This is of little concern as long as human use of resources does not exceed what the earth can renew. But are we taking mo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logical Footprints enable people to take personal and collective actions in support of a world where humanity lives within the means of one plan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
          <p:cNvSpPr/>
          <p:nvPr/>
        </p:nvSpPr>
        <p:spPr>
          <a:xfrm>
            <a:off x="395280" y="177480"/>
            <a:ext cx="820728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New Technologies</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technologies listed below have considered sustainability in their design. They have been designed to minimize impact on the environment.</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Hybrid Toilet System – sustainable management of sewage wast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lar Sailor – combining solar energy and wind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t Rock energy – renewable geothermal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odesic Domes – energy efficient home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Smart Car – a battery powered vehicl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ind farm – renewable wind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orth Side Storage Tunnel – captures sewerage overflow on the north shore of Sydne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iosides – unwanted water treated and used as soil conditioner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anohouse – environmentally friendly hous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
          <p:cNvSpPr/>
          <p:nvPr/>
        </p:nvSpPr>
        <p:spPr>
          <a:xfrm>
            <a:off x="468360" y="505800"/>
            <a:ext cx="820728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rPr>
              <a:t>Environmental Problems and Solutions</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are many environmental problems that have led designers to consider the appropriateness of their designs and the resources used.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of the issues that remind us that we must care for our environment are: </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greenhouse effect</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depletion of the ozone layer</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pecies under threat of extinc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ir and water pollu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aste disposal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Environmentally related trends that have a further impact include:</a:t>
            </a:r>
            <a:endParaRPr b="0" lang="en-US" sz="36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hortage of raw materials, both renewable and non-renewabl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creased cost of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creased levels of pollu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overnment interference in the management of natural resourc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
          <p:cNvSpPr/>
          <p:nvPr/>
        </p:nvSpPr>
        <p:spPr>
          <a:xfrm>
            <a:off x="-430200" y="549720"/>
            <a:ext cx="9806400" cy="5762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Impact of Technology on the Environment</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800" spc="-1" strike="noStrike">
                <a:solidFill>
                  <a:srgbClr val="ffffff"/>
                </a:solidFill>
                <a:latin typeface="Forte"/>
              </a:rPr>
              <a:t>Positives: </a:t>
            </a: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e efficient ways of reducing pollution and cleaning polluted area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dern technology such as electronics uses less raw material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echnology provides more knowledge about our planet</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ectronics occupies less space than mechanical part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ectronics pollute less than mechanical component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cycling technology leads to less use of raw material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ectronics are efficient and require less energy</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te"/>
              </a:rPr>
              <a:t>Negatives:</a:t>
            </a:r>
            <a:endParaRPr b="0" lang="en-US" sz="2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e toxic wast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reater use of some natural resources such as oil, coal, timber, minerals etc.</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nsport of fuels increases the possibility of pollu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e use of fossil fuels leads to warming of our atmospher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reater production of commodities leads to more pollutio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re products leads to more maintenance</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
          <p:cNvSpPr/>
          <p:nvPr/>
        </p:nvSpPr>
        <p:spPr>
          <a:xfrm>
            <a:off x="324000" y="183600"/>
            <a:ext cx="8351640" cy="649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Environmental and Technological Solutions </a:t>
            </a:r>
            <a:endParaRPr b="0" lang="en-US" sz="3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are some initiatives that are already in plac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ual flush toilet systems to reduce water us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ater efficient shower head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ducts that have been designed for disassembly, so that they can be pulled apart after use and be reused and/or recycled </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egislation to prohibit the placing of waste materials into waterway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velopment of solar power and wind farms to provide sustainable energy source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designing of energy efficient fluorescent light bulbs for use in regular light fittings</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orte"/>
              </a:rPr>
              <a:t>Renewable energy</a:t>
            </a:r>
            <a:endParaRPr b="0" lang="en-US" sz="3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newable energy is the most appropriate form of energy as it comes from sources that can be replaced as we use them. Some examples of renewable energy ar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ydro – power</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lar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ind power</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iomass energy</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uclear po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
          <p:cNvSpPr/>
          <p:nvPr/>
        </p:nvSpPr>
        <p:spPr>
          <a:xfrm>
            <a:off x="539640" y="572040"/>
            <a:ext cx="79930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rPr>
              <a:t>Recycling</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rything in our home has originally come from a natural resource. Natural resources includ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ber</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ater</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i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auxite</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imest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resources make items such a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tee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p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lass</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lastic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ycling these waste items saves landfill space, disposal costs and limited natural resour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
          <p:cNvSpPr/>
          <p:nvPr/>
        </p:nvSpPr>
        <p:spPr>
          <a:xfrm>
            <a:off x="324000" y="502200"/>
            <a:ext cx="849600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Recycling Australia Facts</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ustralia is one of the highest producers of waste per head of population in the wor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ustralia is ranked second, behind the USA, in terms of waste genera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very year each Australian sends around 3.5 kilograms of steel cans to the landfill. That’s enough steel to make 40,000 fridg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 2006 over 1 billion newspapers were recycled in Australia – a recycling rate of 73%. That makes Australians the best newspaper recyclers in the wor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very tonne of paper recycled saves almost 13 trees, 2.5 barrels of oil, 4100 kW of electricity, 4 cubic meters of landfill space and 31,780 litres of wa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cycling PET bottles saves 84% of the energy it takes to make PET bottles from raw material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y recycling one aluminum can you are saving enough energy to run your TV for 3 hou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ch cardboard milk carton can be recycled into 5 sheets of office pap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f everyone bought 2 litre bottles of drink instead of 1.25 litre bottles. There would be 22% less bottles us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ustralians are one of the best recycling countries in the world, but we are one of the highest generators of was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
          <p:cNvSpPr/>
          <p:nvPr/>
        </p:nvSpPr>
        <p:spPr>
          <a:xfrm>
            <a:off x="395280" y="1725480"/>
            <a:ext cx="849636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duce the negative impacts from gardening through awareness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of run off, compost, water wise techniques and possible invasive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weeds in your garden</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ut down domestic water usage </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velop a more energy efficient home and minimise  greenhouse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gases</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cycle waste. 46% of Australian homes are already doing it!</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lean your home using “natural cleaning” or “greenhouse cleaning”</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ke simple changes in the way you use chemicals in the home</a:t>
            </a:r>
            <a:endParaRPr b="0" lang="en-US" sz="18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ke green choices when purchasing or building your home. ie: build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to retain maximum light and sunlight, install water tanks and solar panels </a:t>
            </a:r>
            <a:endParaRPr b="0" lang="en-US" sz="1800" spc="-1" strike="noStrike">
              <a:solidFill>
                <a:srgbClr val="ffffff"/>
              </a:solidFill>
              <a:latin typeface="Arial"/>
            </a:endParaRPr>
          </a:p>
        </p:txBody>
      </p:sp>
      <p:sp>
        <p:nvSpPr>
          <p:cNvPr id="543" name=""/>
          <p:cNvSpPr/>
          <p:nvPr/>
        </p:nvSpPr>
        <p:spPr>
          <a:xfrm>
            <a:off x="2700360" y="549360"/>
            <a:ext cx="6264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How can you make differ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4" name=""/>
          <p:cNvSpPr/>
          <p:nvPr/>
        </p:nvSpPr>
        <p:spPr>
          <a:xfrm>
            <a:off x="3564000" y="1341360"/>
            <a:ext cx="244800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3300"/>
                </a:solidFill>
                <a:latin typeface="Arial"/>
              </a:rPr>
              <a:t>YOU CA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45" name="" descr=""/>
          <p:cNvPicPr/>
          <p:nvPr/>
        </p:nvPicPr>
        <p:blipFill>
          <a:blip r:embed="rId1"/>
          <a:stretch/>
        </p:blipFill>
        <p:spPr>
          <a:xfrm>
            <a:off x="468360" y="260280"/>
            <a:ext cx="1500120" cy="20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    </a:t>
            </a:r>
            <a:r>
              <a:rPr b="0" lang="en-US" sz="4000" spc="-1" strike="noStrike">
                <a:solidFill>
                  <a:srgbClr val="dfdef6"/>
                </a:solidFill>
                <a:latin typeface="Arial"/>
              </a:rPr>
              <a:t>What is Environmental    Sustainability?</a:t>
            </a:r>
            <a:endParaRPr b="0" lang="en-US" sz="4000" spc="-1" strike="noStrike">
              <a:solidFill>
                <a:srgbClr val="dfdef6"/>
              </a:solidFill>
              <a:latin typeface="Arial"/>
            </a:endParaRPr>
          </a:p>
        </p:txBody>
      </p:sp>
      <p:pic>
        <p:nvPicPr>
          <p:cNvPr id="515" name="j0438824" descr=""/>
          <p:cNvPicPr/>
          <p:nvPr/>
        </p:nvPicPr>
        <p:blipFill>
          <a:blip r:embed="rId1"/>
          <a:stretch/>
        </p:blipFill>
        <p:spPr>
          <a:xfrm>
            <a:off x="324000" y="333360"/>
            <a:ext cx="1600200" cy="1957320"/>
          </a:xfrm>
          <a:prstGeom prst="rect">
            <a:avLst/>
          </a:prstGeom>
          <a:ln w="0">
            <a:noFill/>
          </a:ln>
        </p:spPr>
      </p:pic>
      <p:sp>
        <p:nvSpPr>
          <p:cNvPr id="516" name=""/>
          <p:cNvSpPr/>
          <p:nvPr/>
        </p:nvSpPr>
        <p:spPr>
          <a:xfrm>
            <a:off x="468360" y="2475000"/>
            <a:ext cx="845496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There is no simple definition of ‘sustainability’.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However, most definitions include:</a:t>
            </a:r>
            <a:endParaRPr b="0" lang="en-US" sz="2000" spc="-1" strike="noStrike">
              <a:solidFill>
                <a:srgbClr val="ffffff"/>
              </a:solidFill>
              <a:latin typeface="Arial"/>
            </a:endParaRPr>
          </a:p>
          <a:p>
            <a:pPr lvl="1" marL="457200">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 </a:t>
            </a:r>
            <a:r>
              <a:rPr b="1" lang="en-US" sz="2000" spc="-1" strike="noStrike">
                <a:solidFill>
                  <a:srgbClr val="ffffff"/>
                </a:solidFill>
                <a:latin typeface="Lucida Sans Unicode"/>
                <a:ea typeface="Times New Roman"/>
              </a:rPr>
              <a:t>living within the limits of what the environment can provide</a:t>
            </a:r>
            <a:endParaRPr b="0" lang="en-US" sz="2000" spc="-1" strike="noStrike">
              <a:solidFill>
                <a:srgbClr val="ffffff"/>
              </a:solidFill>
              <a:latin typeface="Arial"/>
            </a:endParaRPr>
          </a:p>
          <a:p>
            <a:pPr lvl="1" marL="457200">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 </a:t>
            </a:r>
            <a:r>
              <a:rPr b="1" lang="en-US" sz="2000" spc="-1" strike="noStrike">
                <a:solidFill>
                  <a:srgbClr val="ffffff"/>
                </a:solidFill>
                <a:latin typeface="Lucida Sans Unicode"/>
                <a:ea typeface="Times New Roman"/>
              </a:rPr>
              <a:t>understanding the many interconnections between economy,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	</a:t>
            </a:r>
            <a:r>
              <a:rPr b="1" lang="en-US" sz="2000" spc="-1" strike="noStrike">
                <a:solidFill>
                  <a:srgbClr val="ffffff"/>
                </a:solidFill>
                <a:latin typeface="Lucida Sans Unicode"/>
                <a:ea typeface="Times New Roman"/>
              </a:rPr>
              <a:t>  </a:t>
            </a:r>
            <a:r>
              <a:rPr b="1" lang="en-US" sz="2000" spc="-1" strike="noStrike">
                <a:solidFill>
                  <a:srgbClr val="ffffff"/>
                </a:solidFill>
                <a:latin typeface="Lucida Sans Unicode"/>
                <a:ea typeface="Times New Roman"/>
              </a:rPr>
              <a:t>society and the environment </a:t>
            </a:r>
            <a:endParaRPr b="0" lang="en-US" sz="2000" spc="-1" strike="noStrike">
              <a:solidFill>
                <a:srgbClr val="ffffff"/>
              </a:solidFill>
              <a:latin typeface="Arial"/>
            </a:endParaRPr>
          </a:p>
          <a:p>
            <a:pPr lvl="1" marL="457200">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the equal distribution of resources and opportunities</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Times New Roman"/>
              </a:rPr>
              <a:t>[www.environment.nsw.gov.a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
          <p:cNvSpPr/>
          <p:nvPr/>
        </p:nvSpPr>
        <p:spPr>
          <a:xfrm>
            <a:off x="-43560" y="260280"/>
            <a:ext cx="6150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fdef6"/>
                </a:solidFill>
                <a:latin typeface="Forte"/>
              </a:rPr>
              <a:t>Environmental legislation</a:t>
            </a:r>
            <a:r>
              <a:rPr b="0" lang="en-GB" sz="1800" spc="-1" strike="noStrike">
                <a:solidFill>
                  <a:srgbClr val="dfdef6"/>
                </a:solidFill>
                <a:latin typeface="Arial"/>
              </a:rPr>
              <a:t> </a:t>
            </a:r>
            <a:br>
              <a:rPr sz="1800"/>
            </a:br>
            <a:endParaRPr b="0" lang="en-US" sz="1800" spc="-1" strike="noStrike">
              <a:solidFill>
                <a:srgbClr val="ffffff"/>
              </a:solidFill>
              <a:latin typeface="Arial"/>
            </a:endParaRPr>
          </a:p>
        </p:txBody>
      </p:sp>
      <p:sp>
        <p:nvSpPr>
          <p:cNvPr id="547" name=""/>
          <p:cNvSpPr/>
          <p:nvPr/>
        </p:nvSpPr>
        <p:spPr>
          <a:xfrm>
            <a:off x="2124000" y="1125360"/>
            <a:ext cx="4572000" cy="2654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Protection of the Environment Operations Act 1997</a:t>
            </a:r>
            <a:r>
              <a:rPr b="0" lang="en-GB" sz="2400" spc="-1" strike="noStrike">
                <a:solidFill>
                  <a:srgbClr val="ffffff"/>
                </a:solidFill>
                <a:latin typeface="Arial"/>
              </a:rPr>
              <a:t> (NSW) and amendment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odes of Practice (WorkCover NSW)</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ontrol of Workplace Hazardous Substances.</a:t>
            </a:r>
            <a:r>
              <a:rPr b="0" i="1" lang="en-AU" sz="2400" spc="-1" strike="noStrike">
                <a:solidFill>
                  <a:srgbClr val="ffffff"/>
                </a:solidFill>
                <a:latin typeface="Arial"/>
              </a:rPr>
              <a:t> </a:t>
            </a:r>
            <a:endParaRPr b="0" lang="en-US" sz="2400" spc="-1" strike="noStrike">
              <a:solidFill>
                <a:srgbClr val="ffffff"/>
              </a:solidFill>
              <a:latin typeface="Arial"/>
            </a:endParaRPr>
          </a:p>
        </p:txBody>
      </p:sp>
      <p:sp>
        <p:nvSpPr>
          <p:cNvPr id="548" name=""/>
          <p:cNvSpPr/>
          <p:nvPr/>
        </p:nvSpPr>
        <p:spPr>
          <a:xfrm>
            <a:off x="2124000" y="3860640"/>
            <a:ext cx="52578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Arial"/>
              </a:rPr>
              <a:t> </a:t>
            </a:r>
            <a:r>
              <a:rPr b="0" i="1" lang="en-AU" sz="2400" spc="-1" strike="noStrike">
                <a:solidFill>
                  <a:srgbClr val="ffffff"/>
                </a:solidFill>
                <a:latin typeface="Arial"/>
              </a:rPr>
              <a:t>Clean Air Act 1961</a:t>
            </a:r>
            <a:r>
              <a:rPr b="0" lang="en-AU"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Clean Waters Act 1970</a:t>
            </a:r>
            <a:r>
              <a:rPr b="0" lang="en-AU"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Environmental Offences and Penalties Act  1989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Noise Control Act 1975</a:t>
            </a:r>
            <a:r>
              <a:rPr b="0" lang="en-AU" sz="2400" spc="-1" strike="noStrike">
                <a:solidFill>
                  <a:srgbClr val="ffffff"/>
                </a:solidFill>
                <a:latin typeface="Arial"/>
              </a:rPr>
              <a:t> and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Pollution Control Act 1970</a:t>
            </a:r>
            <a:r>
              <a:rPr b="0" lang="en-A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
          <p:cNvSpPr/>
          <p:nvPr/>
        </p:nvSpPr>
        <p:spPr>
          <a:xfrm>
            <a:off x="468360" y="1066680"/>
            <a:ext cx="8207280" cy="472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rPr>
              <a:t>Go to:</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environment .nsw.gov.au/index.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Department of Environment and Climate Change and Wa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 a new agency formed on 27 April 2007.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th the change, the former Department of Environment and Conservation is taking on new and renamed programs to build a broader organisation able to respond to the unprecedented challenge presented by climate chang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new department brings together a range of conservation and natural resources, science and programs, including native vegetation, biodiversity and environmental water recovery to provide an integrated approach to natural resource manageme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
          <p:cNvSpPr/>
          <p:nvPr/>
        </p:nvSpPr>
        <p:spPr>
          <a:xfrm>
            <a:off x="0" y="333360"/>
            <a:ext cx="8893080" cy="629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rPr>
              <a:t>Links</a:t>
            </a:r>
            <a:endParaRPr b="0" lang="en-US" sz="3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ea typeface="Lucida Sans Unicode"/>
              </a:rPr>
              <a:t>www. ecosustainable.com.au/links.htm#3</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ff"/>
                </a:solidFill>
                <a:uFillTx/>
                <a:latin typeface="Lucida Sans Unicode"/>
                <a:ea typeface="Lucida Sans Unicode"/>
                <a:hlinkClick r:id="rId1"/>
              </a:rPr>
              <a:t>www.environment.nsw.gov.au/education/</a:t>
            </a:r>
            <a:r>
              <a:rPr b="1" lang="en-US" sz="1600" spc="-1" strike="noStrike">
                <a:solidFill>
                  <a:srgbClr val="ffffff"/>
                </a:solidFill>
                <a:latin typeface="Lucida Sans Unicode"/>
                <a:ea typeface="Lucida Sans Unicode"/>
              </a:rPr>
              <a:t>EducationCaseStudies.htm#counci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ff"/>
                </a:solidFill>
                <a:uFillTx/>
                <a:latin typeface="Lucida Sans Unicode"/>
                <a:ea typeface="Lucida Sans Unicode"/>
                <a:hlinkClick r:id="rId2"/>
              </a:rPr>
              <a:t>www.environment.nsw.gov.au/sustainbus/index.htm</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ff"/>
                </a:solidFill>
                <a:uFillTx/>
                <a:latin typeface="Lucida Sans Unicode"/>
                <a:ea typeface="Lucida Sans Unicode"/>
                <a:hlinkClick r:id="rId3"/>
              </a:rPr>
              <a:t>www.powerhousemuseaum.com/ecotud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ff"/>
                </a:solidFill>
                <a:uFillTx/>
                <a:latin typeface="Lucida Sans Unicode"/>
                <a:ea typeface="Lucida Sans Unicode"/>
                <a:hlinkClick r:id="rId4"/>
              </a:rPr>
              <a:t>www.powerhousemuseum.com/innovativegam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ea typeface="Lucida Sans Unicode"/>
              </a:rPr>
              <a:t>www.powerhousemuseum.com/exhibitions/ecologic.asp</a:t>
            </a:r>
            <a:endParaRPr b="0" lang="en-US" sz="1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orte"/>
                <a:ea typeface="Lucida Sans Unicode"/>
              </a:rPr>
              <a:t>Case Studies</a:t>
            </a:r>
            <a:endParaRPr b="0" lang="en-US" sz="3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ea typeface="Lucida Sans Unicode"/>
              </a:rPr>
              <a:t>Department of Environment and Conservation [NSW] www.environment.nsw.gov.au</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Sans Unicode"/>
                <a:ea typeface="Lucida Sans Unicode"/>
              </a:rPr>
              <a:t>Industry </a:t>
            </a:r>
            <a:r>
              <a:rPr b="1" lang="en-US" sz="1600" spc="-1" strike="noStrike">
                <a:solidFill>
                  <a:srgbClr val="ffffff"/>
                </a:solidFill>
                <a:latin typeface="Lucida Sans Unicode"/>
                <a:ea typeface="Lucida Sans Unicode"/>
              </a:rPr>
              <a:t>– Eurobodalla Sediment and Erosion Control. Education Awareness campaign.</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Sans Unicode"/>
                <a:ea typeface="Lucida Sans Unicode"/>
              </a:rPr>
              <a:t>Community </a:t>
            </a:r>
            <a:r>
              <a:rPr b="1" lang="en-US" sz="1600" spc="-1" strike="noStrike">
                <a:solidFill>
                  <a:srgbClr val="ffffff"/>
                </a:solidFill>
                <a:latin typeface="Lucida Sans Unicode"/>
                <a:ea typeface="Lucida Sans Unicode"/>
              </a:rPr>
              <a:t>– The Shopping Challenge! Warringah Counci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Sans Unicode"/>
                <a:ea typeface="Lucida Sans Unicode"/>
              </a:rPr>
              <a:t>Organisational</a:t>
            </a:r>
            <a:r>
              <a:rPr b="1" lang="en-US" sz="1600" spc="-1" strike="noStrike">
                <a:solidFill>
                  <a:srgbClr val="ffffff"/>
                </a:solidFill>
                <a:latin typeface="Lucida Sans Unicode"/>
                <a:ea typeface="Lucida Sans Unicode"/>
              </a:rPr>
              <a:t> – campaign for a Clean and Green learning Environment. TAFE NSW – Sydney Institute Ultimo Campu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ea typeface="Lucida Sans Unicode"/>
              </a:rPr>
              <a:t>Magenta Shores, The Entrance NSW</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missioner of Environmental Sustainability Victoria state that: “</a:t>
            </a:r>
            <a:r>
              <a:rPr b="0" i="1" lang="en-US" sz="2400" spc="-1" strike="noStrike">
                <a:solidFill>
                  <a:srgbClr val="ffffff"/>
                </a:solidFill>
                <a:latin typeface="Arial"/>
              </a:rPr>
              <a:t>Environmental sustainability is the ability to maintain the qualities that are valued in the physical environment”.</a:t>
            </a:r>
            <a:r>
              <a:rPr b="0" lang="en-US" sz="2400" spc="-1" strike="noStrike">
                <a:solidFill>
                  <a:srgbClr val="ffffff"/>
                </a:solidFill>
                <a:latin typeface="Arial"/>
              </a:rPr>
              <a:t> </a:t>
            </a:r>
            <a:endParaRPr b="0" lang="en-US" sz="2400" spc="-1" strike="noStrike">
              <a:solidFill>
                <a:srgbClr val="ffffff"/>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most people want to sustain [maintain]: </a:t>
            </a:r>
            <a:endParaRPr b="0" lang="en-US" sz="2400" spc="-1" strike="noStrike">
              <a:solidFill>
                <a:srgbClr val="ffffff"/>
              </a:solidFill>
              <a:latin typeface="Arial"/>
            </a:endParaRPr>
          </a:p>
          <a:p>
            <a:pPr marL="291600" indent="-2916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 life</a:t>
            </a:r>
            <a:endParaRPr b="0" lang="en-US" sz="2400" spc="-1" strike="noStrike">
              <a:solidFill>
                <a:srgbClr val="ffffff"/>
              </a:solidFill>
              <a:latin typeface="Arial"/>
            </a:endParaRPr>
          </a:p>
          <a:p>
            <a:pPr marL="291600" indent="-2916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pabilities that the natural environment has to maintain the living conditions for people and other species [eg. clean water and air, a suitable climate]</a:t>
            </a:r>
            <a:endParaRPr b="0" lang="en-US" sz="2400" spc="-1" strike="noStrike">
              <a:solidFill>
                <a:srgbClr val="ffffff"/>
              </a:solidFill>
              <a:latin typeface="Arial"/>
            </a:endParaRPr>
          </a:p>
          <a:p>
            <a:pPr marL="291600" indent="-2916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pects of the environment that produce renewable resources such as water, timber, fish, solar energy]</a:t>
            </a:r>
            <a:endParaRPr b="0" lang="en-US" sz="2400" spc="-1" strike="noStrike">
              <a:solidFill>
                <a:srgbClr val="ffffff"/>
              </a:solidFill>
              <a:latin typeface="Arial"/>
            </a:endParaRPr>
          </a:p>
          <a:p>
            <a:pPr marL="291600" indent="-2916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unctioning of society, despite non-renewable resource depletion</a:t>
            </a:r>
            <a:endParaRPr b="0" lang="en-US" sz="2400" spc="-1" strike="noStrike">
              <a:solidFill>
                <a:srgbClr val="ffffff"/>
              </a:solidFill>
              <a:latin typeface="Arial"/>
            </a:endParaRPr>
          </a:p>
          <a:p>
            <a:pPr marL="291600" indent="-2916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lity of life for all people, the livability and beauty of the environment.</a:t>
            </a:r>
            <a:endParaRPr b="0" lang="en-US" sz="2400" spc="-1" strike="noStrike">
              <a:solidFill>
                <a:srgbClr val="ffffff"/>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reats to these aspects of the environment mean that there is a risk that these things will not be maintai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
          <p:cNvSpPr/>
          <p:nvPr/>
        </p:nvSpPr>
        <p:spPr>
          <a:xfrm>
            <a:off x="629280" y="489960"/>
            <a:ext cx="8046000" cy="176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Sustainability development aims to meet human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needs in the present while preserving the environment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so that these needs can also be met in the indefinite futur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Sustainability focuses on connections in the following area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519" name=""/>
          <p:cNvGraphicFramePr/>
          <p:nvPr/>
        </p:nvGraphicFramePr>
        <p:xfrm>
          <a:off x="1042920" y="2133720"/>
          <a:ext cx="6996240" cy="4200480"/>
        </p:xfrm>
        <a:graphic>
          <a:graphicData uri="http://schemas.openxmlformats.org/drawingml/2006/table">
            <a:tbl>
              <a:tblPr/>
              <a:tblGrid>
                <a:gridCol w="2332080"/>
                <a:gridCol w="2332080"/>
                <a:gridCol w="233208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Lucida Sans Unicode"/>
                          <a:ea typeface="Times New Roman"/>
                        </a:rPr>
                        <a:t>Economic</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Lucida Sans Unicode"/>
                          <a:ea typeface="Times New Roman"/>
                        </a:rPr>
                        <a:t>Environment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Lucida Sans Unicode"/>
                          <a:ea typeface="Times New Roman"/>
                        </a:rPr>
                        <a:t>Soci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conomic developmen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Resource use: eg. wate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Human and workers right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Local industry particip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ste gener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Paying appropriate wag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Job cre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Material sourcing</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orking condition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Corporate governanc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Atmospheric pollu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Freedom of associ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Public reporting</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Toxic material dispos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orkforce diversit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
          <p:cNvSpPr/>
          <p:nvPr/>
        </p:nvSpPr>
        <p:spPr>
          <a:xfrm>
            <a:off x="458640" y="332280"/>
            <a:ext cx="8201520" cy="143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The Department of Environment and Climate Change [DECC]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implements environmental sustainability program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ea typeface="Times New Roman"/>
              </a:rPr>
              <a:t>that include actions to:</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521" name="j0441874" descr=""/>
          <p:cNvPicPr/>
          <p:nvPr/>
        </p:nvPicPr>
        <p:blipFill>
          <a:blip r:embed="rId1"/>
          <a:stretch/>
        </p:blipFill>
        <p:spPr>
          <a:xfrm>
            <a:off x="5940360" y="3716280"/>
            <a:ext cx="2819520" cy="2819520"/>
          </a:xfrm>
          <a:prstGeom prst="rect">
            <a:avLst/>
          </a:prstGeom>
          <a:ln w="0">
            <a:noFill/>
          </a:ln>
        </p:spPr>
      </p:pic>
      <p:sp>
        <p:nvSpPr>
          <p:cNvPr id="522" name=""/>
          <p:cNvSpPr/>
          <p:nvPr/>
        </p:nvSpPr>
        <p:spPr>
          <a:xfrm>
            <a:off x="942480" y="1370160"/>
            <a:ext cx="6710760" cy="3753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reduce the use of physical resources including water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and energy</a:t>
            </a:r>
            <a:r>
              <a:rPr b="0" lang="en-US" sz="2000" spc="-1" strike="noStrike">
                <a:solidFill>
                  <a:srgbClr val="ffffff"/>
                </a:solidFill>
                <a:latin typeface="Arial"/>
              </a:rPr>
              <a:t> </a:t>
            </a:r>
            <a:r>
              <a:rPr b="0" lang="en-US" sz="2000" spc="-1" strike="noStrike">
                <a:solidFill>
                  <a:srgbClr val="ffffff"/>
                </a:solidFill>
                <a:latin typeface="Lucida Sans Unicode"/>
                <a:ea typeface="Times New Roman"/>
              </a:rPr>
              <a:t>encourage recycling </a:t>
            </a:r>
            <a:endParaRPr b="0" lang="en-US" sz="20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increase the use of renewable resources</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endParaRPr b="0" lang="en-US" sz="20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ncourage redesign of production processes and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products to eliminate the production of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toxic materials</a:t>
            </a:r>
            <a:endParaRPr b="0" lang="en-US" sz="20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protect and restore natural habitats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and environments </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  </a:t>
            </a:r>
            <a:r>
              <a:rPr b="0" lang="en-US" sz="2000" spc="-1" strike="noStrike">
                <a:solidFill>
                  <a:srgbClr val="ffffff"/>
                </a:solidFill>
                <a:latin typeface="Lucida Sans Unicode"/>
                <a:ea typeface="Times New Roman"/>
              </a:rPr>
              <a:t>valued for their biodiversity or beau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
          <p:cNvSpPr/>
          <p:nvPr/>
        </p:nvSpPr>
        <p:spPr>
          <a:xfrm>
            <a:off x="-4727520" y="23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24" name="j0437270" descr=""/>
          <p:cNvPicPr/>
          <p:nvPr/>
        </p:nvPicPr>
        <p:blipFill>
          <a:blip r:embed="rId1"/>
          <a:stretch/>
        </p:blipFill>
        <p:spPr>
          <a:xfrm>
            <a:off x="468360" y="260280"/>
            <a:ext cx="1981080" cy="1978200"/>
          </a:xfrm>
          <a:prstGeom prst="rect">
            <a:avLst/>
          </a:prstGeom>
          <a:ln w="0">
            <a:noFill/>
          </a:ln>
        </p:spPr>
      </p:pic>
      <p:sp>
        <p:nvSpPr>
          <p:cNvPr id="525" name=""/>
          <p:cNvSpPr/>
          <p:nvPr/>
        </p:nvSpPr>
        <p:spPr>
          <a:xfrm>
            <a:off x="468360" y="1903680"/>
            <a:ext cx="8496360" cy="394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Australian’s spend over $10.5 billion annually on goods and services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hat are never or hardly ever used. This is more than the total spent by governments on Australian Universities and roads.</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Over $5.3 billion worth of food was thrown away in 2004.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his equates to 13 times the amount Australians donated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o overseas aid agencies at that time.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Source – Australian Institute, 2005 DP77]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Lucida Sans Unicode"/>
                <a:ea typeface="Times New Roman"/>
              </a:rPr>
              <a:t>Sustainable purchasing can save money as well as the environment.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Lucida Sans Unicode"/>
                <a:ea typeface="Times New Roman"/>
              </a:rPr>
              <a:t>Reduced consumption means reduced purchasing costs – </a:t>
            </a:r>
            <a:endParaRPr b="0" lang="en-US" sz="1800" spc="-1" strike="noStrike">
              <a:solidFill>
                <a:srgbClr val="ffffff"/>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Lucida Sans Unicode"/>
                <a:ea typeface="Times New Roman"/>
              </a:rPr>
              <a:t>saving resources such as water, energy and raw materials and reducing greenhouse gas emissions.  </a:t>
            </a:r>
            <a:endParaRPr b="0" lang="en-US" sz="1800" spc="-1" strike="noStrike">
              <a:solidFill>
                <a:srgbClr val="ffffff"/>
              </a:solidFill>
              <a:latin typeface="Arial"/>
            </a:endParaRPr>
          </a:p>
        </p:txBody>
      </p:sp>
      <p:sp>
        <p:nvSpPr>
          <p:cNvPr id="526" name=""/>
          <p:cNvSpPr/>
          <p:nvPr/>
        </p:nvSpPr>
        <p:spPr>
          <a:xfrm>
            <a:off x="3276720" y="765000"/>
            <a:ext cx="468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D YOU KN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
          <p:cNvSpPr/>
          <p:nvPr/>
        </p:nvSpPr>
        <p:spPr>
          <a:xfrm>
            <a:off x="-4669560" y="1735560"/>
            <a:ext cx="40608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Lucida Sans Unicode"/>
                <a:ea typeface="Times New Roman"/>
              </a:rPr>
              <a:t>SUSTAINABLE HOUSEHOLD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528" name="j0441880" descr=""/>
          <p:cNvPicPr/>
          <p:nvPr/>
        </p:nvPicPr>
        <p:blipFill>
          <a:blip r:embed="rId1"/>
          <a:stretch/>
        </p:blipFill>
        <p:spPr>
          <a:xfrm>
            <a:off x="755640" y="0"/>
            <a:ext cx="1282680" cy="1790640"/>
          </a:xfrm>
          <a:prstGeom prst="rect">
            <a:avLst/>
          </a:prstGeom>
          <a:ln w="0">
            <a:noFill/>
          </a:ln>
        </p:spPr>
      </p:pic>
      <p:sp>
        <p:nvSpPr>
          <p:cNvPr id="529" name=""/>
          <p:cNvSpPr/>
          <p:nvPr/>
        </p:nvSpPr>
        <p:spPr>
          <a:xfrm>
            <a:off x="250920" y="1624680"/>
            <a:ext cx="8713800" cy="44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Times New Roman"/>
              </a:rPr>
              <a:t>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Times New Roman"/>
              </a:rPr>
              <a:t>    </a:t>
            </a:r>
            <a:r>
              <a:rPr b="1" lang="en-US" sz="1800" spc="-1" strike="noStrike">
                <a:solidFill>
                  <a:srgbClr val="ffffff"/>
                </a:solidFill>
                <a:latin typeface="Lucida Sans Unicode"/>
                <a:ea typeface="Times New Roman"/>
              </a:rPr>
              <a:t>Households are responsible for a significant proportion of the resources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Times New Roman"/>
              </a:rPr>
              <a:t>                                             </a:t>
            </a:r>
            <a:r>
              <a:rPr b="1" lang="en-US" sz="1800" spc="-1" strike="noStrike">
                <a:solidFill>
                  <a:srgbClr val="ffffff"/>
                </a:solidFill>
                <a:latin typeface="Lucida Sans Unicode"/>
                <a:ea typeface="Times New Roman"/>
              </a:rPr>
              <a:t>we consume each year.</a:t>
            </a:r>
            <a:r>
              <a:rPr b="1" lang="en-US" sz="2200" spc="-1" strike="noStrike">
                <a:solidFill>
                  <a:srgbClr val="ffffff"/>
                </a:solidFill>
                <a:latin typeface="Lucida Sans Unicode"/>
                <a:ea typeface="Times New Roman"/>
              </a:rPr>
              <a:t>                                      </a:t>
            </a:r>
            <a:endParaRPr b="0" lang="en-US" sz="22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Australians are amongst the highest water users in the world household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 </a:t>
            </a:r>
            <a:r>
              <a:rPr b="0" lang="en-US" sz="1800" spc="-1" strike="noStrike">
                <a:solidFill>
                  <a:srgbClr val="ffffff"/>
                </a:solidFill>
                <a:latin typeface="Lucida Sans Unicode"/>
                <a:ea typeface="Times New Roman"/>
              </a:rPr>
              <a:t>water usage accounts for 70% of Sydney’s total water consumption.</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Households are the second largest user of mains water after agriculture.</a:t>
            </a:r>
            <a:endParaRPr b="0" lang="en-US" sz="1800" spc="-1" strike="noStrike">
              <a:solidFill>
                <a:srgbClr val="ffffff"/>
              </a:solidFill>
              <a:latin typeface="Arial"/>
            </a:endParaRPr>
          </a:p>
          <a:p>
            <a:pPr>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he average household today contains more chemicals than were found in       a typical chemistry lab a century ago and more than 300 manufactured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 </a:t>
            </a:r>
            <a:r>
              <a:rPr b="0" lang="en-US" sz="1800" spc="-1" strike="noStrike">
                <a:solidFill>
                  <a:srgbClr val="ffffff"/>
                </a:solidFill>
                <a:latin typeface="Lucida Sans Unicode"/>
                <a:ea typeface="Times New Roman"/>
              </a:rPr>
              <a:t>chemicals have been found in human bodies.</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 </a:t>
            </a:r>
            <a:endParaRPr b="0" lang="en-US" sz="18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Australians are the second highest waste producers in the world.</a:t>
            </a:r>
            <a:endParaRPr b="0" lang="en-US" sz="1800" spc="-1" strike="noStrike">
              <a:solidFill>
                <a:srgbClr val="ffffff"/>
              </a:solidFill>
              <a:latin typeface="Arial"/>
            </a:endParaRPr>
          </a:p>
          <a:p>
            <a:pPr>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The average Australian household spends $1500 on energy bills each year.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90% of that energy comes from fossil fuels such as coal, which creates </a:t>
            </a: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ea typeface="Times New Roman"/>
              </a:rPr>
              <a:t>greenhouse gas pollution and causes global warming and climate changes. </a:t>
            </a:r>
            <a:endParaRPr b="0" lang="en-US" sz="1800" spc="-1" strike="noStrike">
              <a:solidFill>
                <a:srgbClr val="ffffff"/>
              </a:solidFill>
              <a:latin typeface="Arial"/>
            </a:endParaRPr>
          </a:p>
        </p:txBody>
      </p:sp>
      <p:sp>
        <p:nvSpPr>
          <p:cNvPr id="530" name=""/>
          <p:cNvSpPr/>
          <p:nvPr/>
        </p:nvSpPr>
        <p:spPr>
          <a:xfrm>
            <a:off x="2771640" y="692280"/>
            <a:ext cx="47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D YOU KN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
          <p:cNvSpPr/>
          <p:nvPr/>
        </p:nvSpPr>
        <p:spPr>
          <a:xfrm>
            <a:off x="755640" y="356760"/>
            <a:ext cx="7780320" cy="5974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Forte"/>
              </a:rPr>
              <a:t>EPA</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ea typeface="Lucida Sans Unicode"/>
              </a:rPr>
              <a:t>Environmental Protection Agency</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Sans Unicode"/>
                <a:ea typeface="Lucida Sans Unicode"/>
              </a:rPr>
              <a:t>7 major issues in the environmen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Ai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Waste and Recycling</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Wa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Conservati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Ecosystem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Your neighborhoo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orte"/>
              </a:rPr>
              <a:t>Health and Safe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532" name=""/>
          <p:cNvGraphicFramePr/>
          <p:nvPr/>
        </p:nvGraphicFramePr>
        <p:xfrm>
          <a:off x="468360" y="549360"/>
          <a:ext cx="8424720" cy="5836680"/>
        </p:xfrm>
        <a:graphic>
          <a:graphicData uri="http://schemas.openxmlformats.org/drawingml/2006/table">
            <a:tbl>
              <a:tblPr/>
              <a:tblGrid>
                <a:gridCol w="4275000"/>
                <a:gridCol w="4149720"/>
              </a:tblGrid>
              <a:tr h="129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Air</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Waste and Recycling</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Acid Rai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Air Pollu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Climate Change</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Global Warming</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Ozone</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UV Radiation</a:t>
                      </a:r>
                      <a:r>
                        <a:rPr b="0" lang="en-US" sz="2000" spc="-1" strike="noStrike">
                          <a:solidFill>
                            <a:srgbClr val="ffffff"/>
                          </a:solidFill>
                          <a:latin typeface="Forte"/>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Hazardous Waste</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Recycling</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Solid Waste</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Superfun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Water</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orte"/>
                          <a:ea typeface="Times New Roman"/>
                        </a:rPr>
                        <a:t> </a:t>
                      </a:r>
                      <a:endParaRPr b="0" lang="en-US" sz="3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7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Drinking Water</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stewater</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Ground Water</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ter Pollu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Oil Spills</a:t>
                      </a:r>
                      <a:r>
                        <a:rPr b="0" lang="en-US" sz="2000" spc="-1" strike="noStrike">
                          <a:solidFill>
                            <a:srgbClr val="ffffff"/>
                          </a:solidFill>
                          <a:latin typeface="Forte"/>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ndangered Species</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Energy Conserva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Soil Conserva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Times New Roman"/>
                        </a:rPr>
                        <a:t>Water Conserv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36:59Z</dcterms:created>
  <dc:creator>Dent</dc:creator>
  <dc:description/>
  <dc:language>en-US</dc:language>
  <cp:lastModifiedBy>Dent</cp:lastModifiedBy>
  <dcterms:modified xsi:type="dcterms:W3CDTF">2010-02-17T19:42:45Z</dcterms:modified>
  <cp:revision>43</cp:revision>
  <dc:subject/>
  <dc:title>Environmental Sustainability</dc:title>
</cp:coreProperties>
</file>